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D17-D62B-4DA1-BFDB-6DAC68C1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475-B83F-48ED-92C1-9854C0E4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E3E-1365-4759-B605-7828344E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4D4-58C0-4400-A874-28C5B2B0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F5FB-6E0E-4A63-9AB7-5AA6968C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6D8B-7076-4A1B-A3C1-748A05B0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43B1-3A6C-466C-A9D9-F464325A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EF83-5BB0-4ADB-A642-EC6DD55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FA31-5882-4345-A774-95E7E696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141E-A4FB-4617-A836-8D8DA170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1AAA-E3D3-4B8F-A77C-902012D1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4FF-2E47-40B2-8B51-CC968061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FCBF-AC2D-4145-954A-D3EAD900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E002-C966-4430-BA44-FF2B94C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230A-2D1A-416F-A25D-98E2409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D07A-BABE-4B2E-8802-788674E7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F990-CA9B-42EF-8460-DEEC2028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710-ECED-4CF5-A5F0-42A4D47B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771-A8C9-4DC5-B026-CD6A8088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00C-62B4-4B43-9669-92440C37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148-C044-4A47-B4A5-430CD28A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29E-1EF0-4398-BFA4-67371FFB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6FC-A98F-4F47-BD31-C6F7B47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678-57AB-425A-909E-3608E5D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C240-3CFE-4252-8422-C88334483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ACDC-3B0C-4DFC-B71C-9E287D4D6C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ING RESEAR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hoosing the subjec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topic that interests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Developing Your Thes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opinion about sub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)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eliminary Read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ized reference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ee examples in textboo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eliminary Outl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major divisions of pap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)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orking Bibliograph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list of possible 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Finding Sourc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uterized card cata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iodical ind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magazines and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ders’ Gu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spaper ind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 York Times Ind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nic 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NC LIVE, ERIC, MLA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3:03:52Z</dcterms:created>
  <dc:creator>Mwilliams</dc:creator>
  <dc:description/>
  <dc:language>en-US</dc:language>
  <cp:lastModifiedBy>Sharon</cp:lastModifiedBy>
  <dcterms:modified xsi:type="dcterms:W3CDTF">2009-11-01T19:36:34Z</dcterms:modified>
  <cp:revision>4</cp:revision>
  <dc:subject/>
  <dc:title>DOING RESEARCH</dc:title>
</cp:coreProperties>
</file>